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091057-AC2E-4878-8C51-7324780C34E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0D9734-4C12-46ED-87D8-B8EBD5A6B6D4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EA7-5E55-49F7-BB1A-19531C69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765-FACD-42BA-934B-FC63EDE1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559-79C8-4396-B009-5B07943B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E122-01EE-4BC8-8AD1-3F5D0CAA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582-F81D-4314-9075-808B1229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B589-7175-42B6-8442-29FAF399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DA3-B57B-43C3-9D5B-4F7905D9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74C8-173A-468B-9C96-B09B9EC8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12E4-8DC3-4710-84CA-75138986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7C16-F1BF-40A9-A205-BFAE2B9A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86BE-D869-4FAB-96FA-01604006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14B-C1CD-4A06-BAC5-AF67C620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Page </a:t>
            </a:r>
            <a:fld id="{7E9C3E4E-B028-4862-87E0-F348F7BA9040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8092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Tahoma"/>
              </a:rPr>
              <a:t>The IALA Annual Questionnai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12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Lay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Frequency /update of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9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ffff"/>
                </a:solidFill>
                <a:latin typeface="Tahoma"/>
              </a:rPr>
              <a:t>The layou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5160" y="1444680"/>
            <a:ext cx="882468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9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ffff"/>
                </a:solidFill>
                <a:latin typeface="Tahoma"/>
              </a:rPr>
              <a:t>Frequency /update of informatio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CaixaDeTexto 3"/>
          <p:cNvSpPr/>
          <p:nvPr/>
        </p:nvSpPr>
        <p:spPr>
          <a:xfrm>
            <a:off x="2295360" y="2428920"/>
            <a:ext cx="538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Mandatory / Voluntary ba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2 parts in the questionnair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Quantitative pa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9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ffff"/>
                </a:solidFill>
                <a:latin typeface="Tahoma"/>
              </a:rPr>
              <a:t>The Resul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ângulo 4"/>
          <p:cNvSpPr/>
          <p:nvPr/>
        </p:nvSpPr>
        <p:spPr>
          <a:xfrm>
            <a:off x="2184840" y="2400480"/>
            <a:ext cx="48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Tahoma"/>
              </a:rPr>
              <a:t>http://gis.hidrografico.pt/iala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20:51:41Z</dcterms:created>
  <dc:creator>Andre Chateauvert</dc:creator>
  <dc:description/>
  <dc:language>en-US</dc:language>
  <cp:lastModifiedBy>GABINETE DE ESTUDOS</cp:lastModifiedBy>
  <dcterms:modified xsi:type="dcterms:W3CDTF">2012-11-12T00:09:43Z</dcterms:modified>
  <cp:revision>293</cp:revision>
  <dc:subject/>
  <dc:title>Trends resulting from the IALA Annual Questionnaire (M3)</dc:title>
</cp:coreProperties>
</file>